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AE8-3295-4028-994B-AFC8443E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764-12C0-466C-8FA8-1E992BE6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8BCEF-74A4-4276-8F87-3B164DB7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76CBC-355C-4178-A07F-92FC28DC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38727-E9C6-4F37-9D3A-5E9EDF1D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21486-B65F-4774-9460-F580535D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9E737-99D3-4801-B390-5DC26878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F5847-6D35-42AC-B335-4EF89B43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49D54-4FBF-4E65-8288-14B7EA89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43755-C599-4EB0-AB14-774CBC9E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DC3B9-4362-4E48-B6F6-602CF670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C599-3582-45E4-B74F-B68B811BE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B885-7963-4970-9805-B4BAD6BE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D429-9859-442E-A4A9-E58FA7D9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AE7E-889E-470E-8FDB-E3C237DB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6414-DF3C-43CA-BAFB-7B6ED152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188C-CF82-4EA5-AD6E-C80E57A6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7C2F-97ED-4972-A588-F3067ABB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CAEF-48DA-4391-9D89-048FDFC4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5BA7-C833-4833-8F1F-24D643D7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2C23-6F4D-42F3-93C1-A9BEB2F9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3DF7-3C5F-410F-A21B-178797CB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6635-CA21-4875-92CA-87CAC824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DC8D-7CD2-46AC-A6A7-01058DB5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863C-4E32-4B4F-B41C-BC498181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EA35-8A7A-45A1-99E4-46951204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E32F4-861C-48BF-B022-CA7E2F326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2099-EBA5-4C74-A407-FA56A87F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B3373-CF41-4228-ACB2-9B23BE98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8CB4E-AC8B-4A0E-9461-E383B3DB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1A1E-6938-4C6A-BFD2-94EF1A5B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3C85-FDEE-4098-8378-7B5DCDD9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9C632-6117-4880-A517-1FBB296C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71C9-7897-4D58-B9EC-ECB6000F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DB1B-97E1-4464-87E9-4F9449D6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0DCCE-8A10-4DB5-8325-1083CDA8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93AF7-D21A-4961-B06D-37CDD820C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98827-CDAF-4990-8061-0D8C1C3D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5105-CC20-4F77-B61A-98D0E127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51CB-558F-4AD6-89BB-B63D9B41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8FD94-2D9B-478B-8CAC-CF1F6331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F53D9-C7F9-4086-90BE-D19C3D92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C382-463C-40DB-8457-8171E0ED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90669-935F-4384-B520-C81C6CE4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FAED9-C890-4EA2-BEE8-1AD4ED71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2F291-1F6A-4242-82ED-07F7BA2D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D51B2-64CE-4AD1-A122-FC528A2A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4B0D-2962-4C0F-A84C-10656067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E2F3-1896-4A44-B831-7CC10E96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C17E-CCB3-40CF-B9CE-A33B8543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8575A-4D29-40D5-82D4-865B6A95D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B3E56-A717-4C71-AE29-E56659246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65D92-503E-4E07-99AF-480BE42A8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B6F-8DED-4AB2-B77E-82ACABBB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983DB-56E3-4DBD-AFF3-7EE0CFD5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C4BA8-712C-4B39-9F7E-D0DB6E265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2BBDC-BA5D-40F1-965A-9F0246DB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DF9E0-FAE4-41BB-B866-52564164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5AD8A-BCF7-4D31-A43E-13B4BCF5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BEE85-2118-4965-AD65-EF3BA8F6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9B052-B089-4D5A-970C-5F4F12D6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5415C-1B23-4A66-AF05-8981E0CA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E5757-FC9C-4BDA-A03B-2C681E77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F012D-0353-446D-8FF9-81C9430C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0D7-A239-4A0E-9D7A-FF7531EA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ECFE7-21BD-424F-A657-D03117B5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F363B-9547-4F20-B77E-065F9D98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92A08-9D10-41EC-9976-FF9B371F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E52C3-6B25-4F95-96D0-68267E43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D8417-4779-4AA2-A9C0-7BF7CB05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50070-0B72-416A-8B17-32140937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4B56D-AA87-4EB8-A16C-CE07A4AD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6D26-1E58-4A5F-90A9-EB53314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2E54B-A0E4-410D-86F3-F42C2B61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EEB2-40FC-44EC-9ACC-42E2555E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95F4-120A-48BA-A882-72D586A5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CA5BA-1F91-4B56-A0A5-142FC9B7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60BF-CFA6-446A-8DB8-D5A757AE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5EC0E-7E16-4B75-A8FA-DECE16C0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6D28E-D17A-48F5-B9BC-5CE32833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24B53-FD2C-4969-84AA-8E5498A5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945E0-6DA5-4F2D-8541-3F1A3BF6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B0E30-BC7C-4DE2-8919-C5C4DE1B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A6385-14C1-4DA1-8931-6F12DA50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0D06A-A824-45E8-82E1-16E252E6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9A851-2F03-443C-80D6-41DC3264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B36D-4044-415D-A0D9-A517C9C6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06904-E426-4E00-AC37-D53B7275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E76B8-F4A3-440E-ABF9-876F237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7C539-608F-4274-8889-B09DD09D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4D1C5-BA33-44C1-8570-1BC2DBBE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D2A4F-ECF3-49E2-B8EC-92316348E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D80804-C640-4224-8B5F-65B0491C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ADB0A-5DB6-4E21-BD7D-ABC8B789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AED12-390B-4800-A7ED-AAF2AFE5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7B112-DA08-46B6-A2B0-633BBB8D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7D7AD-2343-4453-8ADD-51D7E0FF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ED88-AE54-440A-BEFF-6724A80E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23518-3223-4DB9-8B3F-70A9670F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8A4B4-805A-4C6C-9D33-FBE8427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7EE59-F4C8-413B-9262-24467C5D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BBA2B-3155-4F87-8712-9ECCC982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924C-B402-4E2F-BDD9-F57C0B72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F34C4-8BB3-4108-8AB5-9E5B0868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1E663-107A-4577-859C-D89F4513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FDBEF-5FB9-44A1-8075-19070964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D4B11-4505-40F1-BCE4-1E09AF3E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A902EA-3BCF-4626-9A1A-C8C9F7EE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7C01-A5FF-46DC-B93B-9B4AB97DF5B0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1A3E3-BF39-4C83-A746-4814BBA939C4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BA2D-99C7-4CAD-845D-6CFF10981C7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631-976C-463F-8857-2E9FBDB69E0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6C8F-3731-47D4-9AB0-F8587D9F19F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BFAC-BA79-4FC4-A38D-39814006213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AE553-21BB-45DB-8BF8-754154E8AA6E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A7DA-D86D-41F0-8B61-96D710C4D6FD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C68D-97BB-4593-8DD3-3F2D47EBC400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destinad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 la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ocupación del tiempo libre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y la </a:t>
            </a: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amenización de la estancia de los usuarios en los campings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</a:t>
            </a: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llevar a cabo todas la actividades propuesta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c00000"/>
                </a:solidFill>
                <a:latin typeface="Book Antiqua"/>
              </a:rPr>
              <a:t>gestionar la empres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adquirir material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buscar ayudas económica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y 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la publici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¿Por que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Ante la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crisis económica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que estamos atravesando 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ir de vacaciones de camping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es una de las maneras 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mas económicas para la socie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El motivo: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Falta de recursos y actividades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con las que cuenta el </a:t>
            </a:r>
            <a:r>
              <a:rPr b="0" lang="es-ES" sz="2400" spc="-1" strike="noStrike">
                <a:solidFill>
                  <a:srgbClr val="d0be40"/>
                </a:solidFill>
                <a:latin typeface="Book Antiqua"/>
              </a:rPr>
              <a:t>camping de Arcos de la fronter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1.-Ofrecer un </a:t>
            </a:r>
            <a:r>
              <a:rPr b="0" lang="es-ES" sz="2400" spc="-1" strike="noStrike">
                <a:solidFill>
                  <a:srgbClr val="c00000"/>
                </a:solidFill>
                <a:latin typeface="Book Antiqua"/>
              </a:rPr>
              <a:t>servicio de cali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2.-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Elevar los niveles de afluencia de client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3.-Ofrecer un 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servicio integr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4.-Facilitar la </a:t>
            </a:r>
            <a:r>
              <a:rPr b="0" lang="es-ES" sz="2400" spc="-1" strike="noStrike">
                <a:solidFill>
                  <a:srgbClr val="92d050"/>
                </a:solidFill>
                <a:latin typeface="Book Antiqua"/>
              </a:rPr>
              <a:t>integración mediante actividad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5.-Fomentar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hábitos de higiene y salu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6.-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Respetar el entorno natural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donde esta e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7.-Dar a conocer </a:t>
            </a: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deportes colectivos e individuales diferentes a los habitual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8.-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Inculcar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 los usuarios los </a:t>
            </a:r>
            <a:r>
              <a:rPr b="0" lang="es-ES" sz="2400" spc="-1" strike="noStrike">
                <a:solidFill>
                  <a:srgbClr val="0070c0"/>
                </a:solidFill>
                <a:latin typeface="Book Antiqua"/>
              </a:rPr>
              <a:t>valores de compañerism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0070c0"/>
                </a:solidFill>
                <a:latin typeface="Book Antiqua"/>
              </a:rPr>
              <a:t>amistad, respeto a sus compañeros y rivales, disciplina y juego en equip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SITUACIÓN GEOGRAFICA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698400" y="2247840"/>
            <a:ext cx="77472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Book Antiqua"/>
              </a:rPr>
              <a:t>Norte: Espera y Bornos. </a:t>
            </a:r>
            <a:r>
              <a:rPr b="0" lang="es-ES" sz="1400" spc="-1" strike="noStrike">
                <a:solidFill>
                  <a:srgbClr val="ffc000"/>
                </a:solidFill>
                <a:latin typeface="Book Antiqua"/>
              </a:rPr>
              <a:t>Noroeste: Villamartin. </a:t>
            </a:r>
            <a:r>
              <a:rPr b="0" lang="es-ES" sz="1400" spc="-1" strike="noStrike">
                <a:solidFill>
                  <a:srgbClr val="ffff00"/>
                </a:solidFill>
                <a:latin typeface="Book Antiqua"/>
              </a:rPr>
              <a:t>Este: El Bosque y Prado del Rey. </a:t>
            </a:r>
            <a:r>
              <a:rPr b="0" lang="es-ES" sz="1400" spc="-1" strike="noStrike">
                <a:solidFill>
                  <a:srgbClr val="00b050"/>
                </a:solidFill>
                <a:latin typeface="Book Antiqua"/>
              </a:rPr>
              <a:t>Sureste: Benaocaz y Ubrique. </a:t>
            </a:r>
            <a:r>
              <a:rPr b="0" lang="es-ES" sz="1400" spc="-1" strike="noStrike">
                <a:solidFill>
                  <a:srgbClr val="00b0f0"/>
                </a:solidFill>
                <a:latin typeface="Book Antiqua"/>
              </a:rPr>
              <a:t>Sur: Algar y San José del Valle. </a:t>
            </a:r>
            <a:r>
              <a:rPr b="0" lang="es-ES" sz="1400" spc="-1" strike="noStrike">
                <a:solidFill>
                  <a:srgbClr val="7030a0"/>
                </a:solidFill>
                <a:latin typeface="Book Antiqua"/>
              </a:rPr>
              <a:t>Oeste: Jerez de la Frontera.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434" name="Imagen 6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915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6" name="Imagen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858000" cy="3504960"/>
          </a:xfrm>
          <a:prstGeom prst="rect">
            <a:avLst/>
          </a:prstGeom>
          <a:ln w="0">
            <a:noFill/>
          </a:ln>
        </p:spPr>
      </p:pic>
      <p:pic>
        <p:nvPicPr>
          <p:cNvPr id="437" name="Imagen 4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RECURSOS 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9" name="Imagen 42" descr=""/>
          <p:cNvPicPr/>
          <p:nvPr/>
        </p:nvPicPr>
        <p:blipFill>
          <a:blip r:embed="rId1"/>
          <a:stretch/>
        </p:blipFill>
        <p:spPr>
          <a:xfrm>
            <a:off x="0" y="2209680"/>
            <a:ext cx="9185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25T21:03:02Z</dcterms:modified>
  <cp:revision>26</cp:revision>
  <dc:subject/>
  <dc:title>NATURALCAMP</dc:title>
</cp:coreProperties>
</file>